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D8F74-10C6-4722-8536-600F1F33A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40939-750E-4497-8921-06C8F9A2D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ECCD6-DBB1-4D61-AAF0-A46D631D5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492AF-838A-40B9-BF8C-6AD25CAC8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DB070-66F4-4593-850C-0C0AF5FD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B8385-8BC1-4265-89DC-32DC4F81B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92FD9-3EB5-41B9-9CBD-D20677AC1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FD880-49DE-475C-AF5A-6747228C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41975-5738-4074-B819-41F6A0057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5C33-5BA9-4866-BBC7-3B329FDE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40C9-D136-4E19-BBCC-A38003C0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A6305-9B3D-4DE9-98E3-96493BE67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3E58-DBB3-471E-AAC7-C6FAA4A597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Flaherty\AppData\Local\Microsoft\Windows\Temporary Internet Files\Content.IE5\B5A8MA3T\MM900178279[1].gif"/>
          <p:cNvPicPr/>
          <p:nvPr/>
        </p:nvPicPr>
        <p:blipFill>
          <a:blip r:embed="rId1"/>
          <a:stretch/>
        </p:blipFill>
        <p:spPr>
          <a:xfrm>
            <a:off x="1128600" y="6480"/>
            <a:ext cx="6572520" cy="6572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adley Hand ITC"/>
              </a:rPr>
              <a:t>Russia’s… UNIQUE Cultur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Bradley Hand ITC"/>
              </a:rPr>
              <a:t>By: Isabelle F. and Jessica 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720"/>
            <a:ext cx="82296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70c0"/>
                </a:solidFill>
                <a:uFillTx/>
                <a:latin typeface="Bradley Hand ITC"/>
              </a:rPr>
              <a:t>Daily Life</a:t>
            </a:r>
            <a:endParaRPr b="0" lang="en-US" sz="4000" spc="-1" strike="noStrike">
              <a:solidFill>
                <a:srgbClr val="000000"/>
              </a:solidFill>
              <a:latin typeface="Calibri"/>
            </a:endParaRPr>
          </a:p>
        </p:txBody>
      </p:sp>
      <p:sp>
        <p:nvSpPr>
          <p:cNvPr id="45" name=""/>
          <p:cNvSpPr txBox="1"/>
          <p:nvPr/>
        </p:nvSpPr>
        <p:spPr>
          <a:xfrm>
            <a:off x="533520" y="1388880"/>
            <a:ext cx="8229600" cy="5468760"/>
          </a:xfrm>
          <a:prstGeom prst="rect">
            <a:avLst/>
          </a:prstGeom>
          <a:noFill/>
          <a:ln w="0">
            <a:noFill/>
          </a:ln>
        </p:spPr>
        <p:txBody>
          <a:bodyPr anchor="t">
            <a:normAutofit fontScale="96000"/>
          </a:bodyPr>
          <a:p>
            <a:pPr marL="329040" indent="-32904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Bradley Hand ITC"/>
              </a:rPr>
              <a:t>Russian life includes sports, gatherings, and full meals. People enjoy sports such as soccer, tennis, skiing, mountain hiking, gymnastics, camping, skating, ice hockey, and many more winter sports. They enjoy celebrations such as the most popular non-religious celebration, New Year’s Eve. They also celebrate Christmas and May Day, which is a celebration where no one has to work and it honors Russia’s workers. Family’s enjoy a full meal, which includes a big bowl of borscht (a soup made of beets), Sochi (soup made of cabbage),  meat turnovers (also called Piroshki), meat, poultry, or fish with side of boiled potatoes. On Special occasions, they also enjoy caviar. </a:t>
            </a:r>
            <a:endParaRPr b="0" lang="en-US" sz="2700" spc="-1" strike="noStrike">
              <a:solidFill>
                <a:srgbClr val="000000"/>
              </a:solidFill>
              <a:latin typeface="Calibri"/>
            </a:endParaRPr>
          </a:p>
        </p:txBody>
      </p:sp>
      <p:pic>
        <p:nvPicPr>
          <p:cNvPr id="46" name="Picture 2" descr="C:\Users\Flaherty\AppData\Local\Microsoft\Windows\Temporary Internet Files\Content.IE5\L4L9PEY6\MC900353812[1].wmf"/>
          <p:cNvPicPr/>
          <p:nvPr/>
        </p:nvPicPr>
        <p:blipFill>
          <a:blip r:embed="rId1"/>
          <a:stretch/>
        </p:blipFill>
        <p:spPr>
          <a:xfrm>
            <a:off x="7543800" y="0"/>
            <a:ext cx="1447920" cy="1359000"/>
          </a:xfrm>
          <a:prstGeom prst="rect">
            <a:avLst/>
          </a:prstGeom>
          <a:ln w="0">
            <a:noFill/>
          </a:ln>
        </p:spPr>
      </p:pic>
      <p:pic>
        <p:nvPicPr>
          <p:cNvPr id="47" name="Picture 3" descr="C:\Users\Flaherty\AppData\Local\Microsoft\Windows\Temporary Internet Files\Content.IE5\B5A8MA3T\MC900238219[1].wmf"/>
          <p:cNvPicPr/>
          <p:nvPr/>
        </p:nvPicPr>
        <p:blipFill>
          <a:blip r:embed="rId2"/>
          <a:stretch/>
        </p:blipFill>
        <p:spPr>
          <a:xfrm>
            <a:off x="1905120" y="0"/>
            <a:ext cx="1369800" cy="1401840"/>
          </a:xfrm>
          <a:prstGeom prst="rect">
            <a:avLst/>
          </a:prstGeom>
          <a:ln w="0">
            <a:noFill/>
          </a:ln>
        </p:spPr>
      </p:pic>
      <p:pic>
        <p:nvPicPr>
          <p:cNvPr id="48" name="Picture 5" descr="C:\Users\Flaherty\AppData\Local\Microsoft\Windows\Temporary Internet Files\Content.IE5\0QTRFCQN\MC900285618[1].wmf"/>
          <p:cNvPicPr/>
          <p:nvPr/>
        </p:nvPicPr>
        <p:blipFill>
          <a:blip r:embed="rId3"/>
          <a:stretch/>
        </p:blipFill>
        <p:spPr>
          <a:xfrm>
            <a:off x="5867280" y="19080"/>
            <a:ext cx="1524240" cy="153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Ethnic groups OF RUSSIA</a:t>
            </a:r>
            <a:endParaRPr b="0" lang="en-US" sz="40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Many ethnic group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The problem with having so many different ethnic groups is that all the groups practice different language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Some ethnic groups are russian-79.8%, Tatar-3.8%, Ukrainian-2% , Bashkir-1.2% , Chuvash-1.1% , Other or unspecified-12.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Russian Language</a:t>
            </a: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onsole"/>
              </a:rPr>
              <a:t>90% speak Russi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29:06Z</dcterms:created>
  <dc:creator>Flaherty</dc:creator>
  <dc:description/>
  <dc:language>en-US</dc:language>
  <cp:lastModifiedBy> </cp:lastModifiedBy>
  <dcterms:modified xsi:type="dcterms:W3CDTF">2010-12-14T19:34:08Z</dcterms:modified>
  <cp:revision>4</cp:revision>
  <dc:subject/>
  <dc:title>Russia’s… UNIQUE Culture</dc:title>
</cp:coreProperties>
</file>